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6018-DC39-4D88-A90F-77AD4E13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2ADC-8E58-474B-A633-6125E82F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128B-F8F6-4816-B2F4-A1F13ED3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13F8-2E1E-4C66-B2D3-D161C9D5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CCD7-9355-494D-879F-35EBCB89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CC73-4FD3-4099-A574-0A21C866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C779-47F8-4074-BF01-500E5F33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574D-C447-4B43-BBC3-5AD3BACD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B102-8FA6-4512-B7AB-FF0B133C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51B6-12DE-475F-A546-D42FF7AE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6525-7E58-4955-A3E4-84042D91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952-A38B-4C4B-8F3A-FC8A77E5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ECB4-4A0D-4F35-A28B-296052EB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21F5-FBC7-46E3-A0E3-A78FE0A8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0A9A-C464-4E0B-8D5B-73881C8A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EA25-A5D0-4F27-8BD5-48601DA4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931B-9628-4AC0-AE1C-709D4DAB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AFB2-7FA2-4684-9B0C-EC52DE78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D66-838D-47FD-A354-EA5D9A77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D762-C9B8-47B7-8538-DD576F75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C71C-1994-4755-BCA3-138C9C36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8490-A928-428F-9A06-ACE4AB51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81FA-1502-423B-96D7-49E533B9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2C1-AD93-45C5-80DD-AF9E826C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90ED-B375-4FD3-9FC6-7A60E4E6C87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D14C-A3AA-454A-9A48-20E73A6FD54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5230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king away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6 -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9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- 3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25:20Z</dcterms:created>
  <dc:creator>TEACHER</dc:creator>
  <dc:description/>
  <dc:language>en-US</dc:language>
  <cp:lastModifiedBy>Staff</cp:lastModifiedBy>
  <dcterms:modified xsi:type="dcterms:W3CDTF">2007-06-18T15:37:13Z</dcterms:modified>
  <cp:revision>4</cp:revision>
  <dc:subject/>
  <dc:title>Adding!</dc:title>
</cp:coreProperties>
</file>