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F96-83A9-4F9E-BF51-C6486234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0B7-CDE1-4CE2-BEE1-BB1A1F7C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B2F-A705-49B0-88E6-DA22D656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F10-48E2-4AFA-9617-A8AEE3C2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691E-6951-4814-B2B5-FB22B3F7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9359-86D1-4AA1-B9AA-29F65316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A3EE-8722-4D50-AA83-5FEE8EC0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A41E-6AB7-4235-B85A-5AB5AAF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98D1-C835-4341-88CC-994F5DCD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D4CD-ADFE-49CC-9D6B-DEFA04E6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987C-89B3-47C7-BDDE-5F2B4A5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153-1F40-4DC8-B69E-A5C39C7F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DD02-2C32-4F66-BD44-0A91D63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0DB7-2FCC-4149-A196-8478E68C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653A-4149-4479-94F2-B37D3E50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AE75-9980-4976-9C43-4A82E47A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621F-6243-48F2-9BEE-590239FA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1D1-019E-41FA-AE28-F19F2E27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1B0-FBCA-4A6D-99C5-6DBD77A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756-1EBC-4BE2-A375-DF1B715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C36-453F-4FB1-9F8D-D89A7851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9D2-6DE2-4AE6-B73D-BD51EE36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3FA-251C-4420-8366-063167D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944-5F4F-46BB-A505-3D01821C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A5A5-46F1-47C9-B0AB-57DF1A4570E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FF6C-A72C-41BF-B021-60BDE864598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8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6-03-21T10:29:01Z</dcterms:modified>
  <cp:revision>1</cp:revision>
  <dc:subject/>
  <dc:title>Adding!</dc:title>
</cp:coreProperties>
</file>