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688-7F46-4DA3-81C1-837B4609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CB6-8265-4E6F-8C7C-E9DF375B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36D-F3C4-460F-8083-B544E4D9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116-CAB1-47D3-BBC2-81DE1E67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12F2-CC68-4A7F-99F5-1FD672FB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3A41-9E38-4E7D-8D40-FEC3CD8A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2276-377D-4C93-8FA3-2641FFB4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B93A-4808-4B01-833E-3A71E741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CCDD-334C-48EB-AA60-A7329F2F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01D9-D0E7-475E-81CC-119E9E3C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59CA-2BC1-4421-B370-83F3F920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902-33EE-49ED-9F87-669AB525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4D31-65B9-4AF2-8763-457F0A27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84B7-77E1-4D7F-85C9-C2E47AC1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8CA2-1A85-418A-BE3D-2BC5E828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47B1-7B66-4D31-BC4C-E089144E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3F32-D722-45B1-98C1-BC64E3CA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3DA-C169-4103-9E82-23D675E4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5D3-8581-489D-A37D-DF365BDB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5E3-C96D-4675-B50F-BA7C1C4E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4E1-68B7-4253-BE34-C3F2A942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085-AC95-492D-B7DE-2E86EC8E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69C-8DFF-4623-84B6-99C63D91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CF4-A351-4771-A554-828B4DCC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590B-920A-4E59-9D69-C4B0517ED55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0188-5941-4482-850C-FC1DE24B3F3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Adding and taking aw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7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5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7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TEACHER</cp:lastModifiedBy>
  <dcterms:modified xsi:type="dcterms:W3CDTF">2007-04-03T10:59:12Z</dcterms:modified>
  <cp:revision>2</cp:revision>
  <dc:subject/>
  <dc:title>Adding!</dc:title>
</cp:coreProperties>
</file>