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CA0-21C6-4A02-8F29-D54A4448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67D-A8C3-468C-9AAC-3DBB181C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F4C-9276-45C5-906F-D5DB01E0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49D-FEAC-4621-8CF5-DF906060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59B-336B-46F7-B066-8FCC7246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9CB-0FE4-469C-9204-822E8DE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553-7C7F-4DF9-AA7E-A673D83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480-B6ED-43EE-9EF8-E5AD1352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142-0950-4823-8A5A-A1489867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2FA-B3FC-4C95-AD47-61C0F5B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2BA-CAC1-46A1-B7CD-4B0E6DE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673-C5F8-4C19-98B3-3BD13974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410-9E5D-4CCD-AAB8-9655399C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dding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+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Arial"/>
              </a:rPr>
              <a:t>2 + 2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000000"/>
                </a:solidFill>
                <a:latin typeface="Arial"/>
              </a:rPr>
              <a:t>6 – 1 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0:10:57Z</dcterms:created>
  <dc:creator>TEACHER</dc:creator>
  <dc:description/>
  <dc:language>en-US</dc:language>
  <cp:lastModifiedBy>TEACHER</cp:lastModifiedBy>
  <dcterms:modified xsi:type="dcterms:W3CDTF">2006-06-20T10:11:06Z</dcterms:modified>
  <cp:revision>1</cp:revision>
  <dc:subject/>
  <dc:title>Adding  and  Taking Away! </dc:title>
</cp:coreProperties>
</file>