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76D1-FEB4-4A6F-8B86-C9DA44CC0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26B4-AFED-4D45-A2CE-DEBB2893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CBE4-58CC-422A-99A6-1173E01A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8C23-E40D-407F-9BDC-2D08271FB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4C00-16CC-4887-B7F9-BDAC74EB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D9C2-EDCB-4F74-8B23-C038B431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E3EA-DE8F-4247-85F9-EB408A99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2959-F95F-4EDF-BC4E-C3780932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C505-1196-41E9-A96A-FAE0FCF9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940A-01C9-44A3-B63B-CF4AC98E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9D55-BC1D-433A-8C7B-2E713BE7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A368-4191-4113-8FFB-C0AFFB8D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9D40-D606-4314-BE77-16E46BE2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B8C2-EF85-425D-8B8A-A394F73D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CA47-25CA-4374-97DA-1ACB2BF1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0D18-C54B-4C0F-8CE5-8D8C527F8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2CBC-9B4E-431A-89FA-4A5F5FDC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588B-55E0-42A3-B9AD-4ACF2988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DC9B-FB57-4F85-B009-FA2FBEB8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D363-EA89-4B16-A0F7-813CC679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5201-ED29-4F48-B331-852D6027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7DB8-4A89-4C7E-B89D-44EE3905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D379-7C01-454A-A2F7-C28AE9F0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0C8C-D8B3-46D0-AC97-1D49F34D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A34F-C088-41AB-9DBD-AFE7012803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959F-F650-4C7B-BB81-EDBEAA2D38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258920" y="2565360"/>
            <a:ext cx="6767640" cy="201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Add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8360" y="1557360"/>
            <a:ext cx="7848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ffff"/>
                </a:solidFill>
                <a:latin typeface="Arial"/>
              </a:rPr>
              <a:t>4 + 2 = 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68360" y="1557360"/>
            <a:ext cx="7848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ffff"/>
                </a:solidFill>
                <a:latin typeface="Arial"/>
              </a:rPr>
              <a:t>5 + 2 = 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68360" y="1557360"/>
            <a:ext cx="7848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GB" sz="15000" spc="-1" strike="noStrike">
                <a:solidFill>
                  <a:srgbClr val="00ffff"/>
                </a:solidFill>
                <a:latin typeface="Arial"/>
              </a:rPr>
              <a:t>4 + 3 = 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68360" y="1557360"/>
            <a:ext cx="7848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ffff"/>
                </a:solidFill>
                <a:latin typeface="Arial"/>
              </a:rPr>
              <a:t>5 + 4 = 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68360" y="1557360"/>
            <a:ext cx="7848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ffff"/>
                </a:solidFill>
                <a:latin typeface="Arial"/>
              </a:rPr>
              <a:t>5 + 5 = 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68360" y="1557360"/>
            <a:ext cx="7848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ffff"/>
                </a:solidFill>
                <a:latin typeface="Arial"/>
              </a:rPr>
              <a:t>8 + 2 = 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18:38:40Z</dcterms:created>
  <dc:creator>TEACHER</dc:creator>
  <dc:description/>
  <dc:language>en-US</dc:language>
  <cp:lastModifiedBy>Staff</cp:lastModifiedBy>
  <dcterms:modified xsi:type="dcterms:W3CDTF">2006-05-16T09:58:38Z</dcterms:modified>
  <cp:revision>1</cp:revision>
  <dc:subject/>
  <dc:title>Slide 1</dc:title>
</cp:coreProperties>
</file>