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0133-84E9-415D-8890-F80D98E82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C011-49D9-4B0D-8A77-0097978E1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4EB2-3F2F-474D-A18A-5CA208EA5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C52C-D916-4509-877A-A82CAE054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DFBF6-999E-4BBF-BC82-F43D04121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5793B-51AD-466A-9E93-AC15A4F40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4C26F-54BA-4976-A1C0-4DC459FC7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087D1-846B-4FEE-BE09-3F40BCCF0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C2C79-CFFF-486D-B9CE-37030B0E7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4D83E-F0D0-4B76-BFCA-F2E23D158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397CD-EB75-4895-99EB-B002E43E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03C8-E6E8-4512-AA53-2C087802E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1F2D0-10F6-412A-991A-7564FBA7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A1A5D-0E8D-4E0F-B941-C2F4EF40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6CCAB-24EA-47C6-B84E-20EF5E90F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2FBAB-F1A7-476E-916B-27D9905BE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0DAB4-C9F7-4DF5-B132-1CE504F31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06D7-EC30-4798-AAFA-265591562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0A55-7666-477A-88CB-206174FC5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55C7-0894-4851-B59E-BB1767D03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CD90-4159-4E6B-855D-72BD407BC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51BD-020B-4EB2-81C3-700F2C62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397F-9DCD-41A3-9418-DACBDC2B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9D60-59B8-4D6D-BBD9-D183AA45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88B28-0DDE-4519-BD13-C584822FA9FF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03EF0-C628-4E99-8B92-9FBD38CD0E04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11280" y="52308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Taking away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4 - 1 =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6 - 2 =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9 - 1 =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4 - 3 =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0:25:20Z</dcterms:created>
  <dc:creator>TEACHER</dc:creator>
  <dc:description/>
  <dc:language>en-US</dc:language>
  <cp:lastModifiedBy>TEACHER</cp:lastModifiedBy>
  <dcterms:modified xsi:type="dcterms:W3CDTF">2008-06-02T20:09:52Z</dcterms:modified>
  <cp:revision>4</cp:revision>
  <dc:subject/>
  <dc:title>Adding!</dc:title>
</cp:coreProperties>
</file>