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FB15-5DF3-4076-A536-C47EF51B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EEE-8479-4BC0-AB30-F7A42CCD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847-056E-4A8C-AF41-EB4BEBBC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B6B-CFE7-40B5-8C49-A9F00148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8B07-59FF-410F-8478-B21AF8D7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F121-BF22-4D3D-82F7-05F5DD51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4576-5660-4071-A504-DFCE8ECF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4703-1AC5-454B-AE27-C633026C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1460-6005-483D-813D-8ADD7C44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1254-B7B8-4F1C-89F9-7F8EC6AE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BB89-DE2A-46A7-8047-D49D7D5D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B38-5466-4959-8456-7C78CBBC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B9B6-10B6-4DAE-A2DE-7E726D7D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8BBD-48CF-490B-8556-BA862232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A516-53A1-46F9-8E7B-AA63E540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4DFA-ED57-4646-9B7E-837E343D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646D-CF75-4211-AD09-A0BFD691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05C-67AD-42A4-AAAC-ABC8F67E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CF09-1773-4957-A417-364BFD17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25EF-C331-4F6C-866E-F1E6EBCE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F71-7645-4D1B-BC83-9FEA5CB2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CC91-DB91-42F4-8F0E-870BB408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CC58-CA09-4DBB-ACDC-91AB7981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5C7-5669-4CD1-9615-C66DC03F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5396-B5D6-48B1-B964-8F4FDCBE9A2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23B5-AD1E-4829-A807-885FA838173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5230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Adding 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3 +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+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5 +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2 +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3 +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25:20Z</dcterms:created>
  <dc:creator>TEACHER</dc:creator>
  <dc:description/>
  <dc:language>en-US</dc:language>
  <cp:lastModifiedBy>TEACHER</cp:lastModifiedBy>
  <dcterms:modified xsi:type="dcterms:W3CDTF">2007-09-23T20:49:28Z</dcterms:modified>
  <cp:revision>3</cp:revision>
  <dc:subject/>
  <dc:title>Adding!</dc:title>
</cp:coreProperties>
</file>