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90C-7908-4681-B269-632A1FBA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F0F-5716-40E1-B47B-BC9EF72F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A80-B04D-4E42-B1DB-8134F4D0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115-2806-484D-BA05-942011B7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BB20-0E4C-4D5D-A0B8-B72B45F5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B90F-B065-4DB1-B7D8-C918E8BA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09F1-8997-48BA-BD47-44D2FDE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A3E0-EA49-478F-BEC6-D46BA489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4C38-9DE9-4079-9F9F-25639FD5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423D-16A1-4248-A843-9DC38B30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C8FC-A4E3-4963-A1B8-68C028D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5C1-7810-4472-9DAE-D5B52FB4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54FC-EA75-410B-BFC0-67A310AE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5F99-B446-4370-B938-C99986C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E946-3093-41A8-9D89-9BE9E4B2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96C6-3767-4247-9DB5-109FCA0B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BAC7-B213-4272-B006-6986EDD3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E73-8449-499E-9E1E-F5E6F276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566-FB7C-4464-AFC4-1ECB524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B0D-6E9C-498C-B083-8EB4B767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F87-3BBA-4BC7-B221-F3A1EDA0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84E-3712-4F4A-BBA6-E6C5B7A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74D-5806-497A-A042-6AE8EB8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B1B-6701-470D-9A41-E81306B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A1C1-12F0-403C-AACD-638B59861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0453-6EA5-4AA2-958F-2FE3573D6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846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b7e7ff"/>
                </a:solidFill>
                <a:latin typeface="Arial"/>
              </a:rPr>
              <a:t>Taking Away!</a:t>
            </a: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7 – 1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4 – 2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5 – 2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f"/>
                </a:solidFill>
                <a:latin typeface="Arial"/>
              </a:rPr>
              <a:t>10 – 2 =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0" spc="-1" strike="noStrike">
                <a:solidFill>
                  <a:srgbClr val="ffffff"/>
                </a:solidFill>
                <a:latin typeface="Arial"/>
              </a:rPr>
              <a:t>11 – 1 =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4 – 3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9:48:19Z</dcterms:created>
  <dc:creator>TEACHER</dc:creator>
  <dc:description/>
  <dc:language>en-US</dc:language>
  <cp:lastModifiedBy>TEACHER</cp:lastModifiedBy>
  <dcterms:modified xsi:type="dcterms:W3CDTF">2006-04-11T09:57:00Z</dcterms:modified>
  <cp:revision>1</cp:revision>
  <dc:subject/>
  <dc:title>Taking Away! </dc:title>
</cp:coreProperties>
</file>